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C19-BBEF-40F8-BCDB-DF5006D1B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0D74-8447-4A5D-B53E-707795D862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0CB-3EF1-40D6-AA21-5D66F4C465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09A5-193A-45CF-944F-667F8834D7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340A-15AF-4F07-B259-F29886E334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54C-6B23-4253-97C7-749E7A0583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F12-8FA9-42EA-8293-B9CA591E60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952-626F-4A88-97BE-1C04DFA68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616D-147C-4B7F-9069-0688EE16B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6E4-724D-41B4-B0B8-34FCD34B3E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A030-1100-41ED-8D4C-9007FA1070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B3F9-CB26-44EA-A194-2178BBDFB8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1AE-467A-448B-AB3B-CB9D5C254F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5FBA-4CC7-43A6-B9B8-94823ED40F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F846-06AD-4F7D-BB74-3B38534532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A7EC-BDD1-4C49-B84C-3C277B6862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7000" indent="0">
              <a:spcBef>
                <a:spcPts val="28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7000" indent="0"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180-4E1A-470E-B813-2ADEEF5F82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0E15-23E7-4DAE-8233-B88CDD4F87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23B-FB82-407E-AC83-8E4D5C3451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AD21-E898-4EF8-AF90-EFE71A4D50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9E4-686F-4F14-8F5C-B7187904AC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274-0FE7-40BB-846C-12158B0BFA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BFC1-3BAD-4D72-8C1D-62DA4A63D7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B5C-B80E-4751-A604-27DEBE116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089-A4A4-4609-A9F4-B87AC33A94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373-AF41-43A6-9955-C5EF18EF52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FC2-6E25-497E-8812-ECA15288B8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0A0-D940-4A51-9578-326B5404D4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AB6-556E-44DB-9841-BEE561284A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48D4-236E-4D51-B055-B19586C7EC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0FAE-614B-4DBF-B530-14F87C7563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554-A02C-44BD-82E9-C385BC80CF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A1C0-E504-48A5-850C-4C6A3C30D5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296A-7389-4426-8855-1EFB0328A7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396-E195-47A2-8F51-C1ACFC32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0AD-E0A6-4FC9-B198-5ECB933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88D-9730-4EED-8C48-3EC65D79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89C-525C-412A-9EA9-CD61F6DA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7108-8F6F-4311-98C6-8FED1BC8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03DC-E82D-4AFA-841D-B0FA432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9A50-9108-4819-95AC-216A7BB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F77-0DE3-42C6-8F33-F4AE6AF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B988-2DDD-40CC-9B6A-D1FE671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51D-DA2F-40D7-B2EB-30F4C535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52DC-31F9-465E-A1DA-13E10C0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7C9-4BB1-4468-8FB9-4AA1773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3359-20BA-43EF-80C8-917CF3A2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AFE4-9B7B-47CC-94FD-30EBE41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C3B-1762-4485-8561-70FEC70B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5D44-6EAB-43AE-9100-31BDD93E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953-4208-436C-8F46-0F6D84AB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039-21FD-4949-849F-F8FD0905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A03-59CF-4C4E-BCCC-B7B837C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657-1DF7-462D-A562-310CF29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406-6690-4810-982C-84BD44E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0BC-5A19-4A3A-B7ED-0EB8193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FA5-302C-42E1-80B6-77C5A77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22C-6D8A-427F-8A45-3DB3AB6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54A-B8F4-4479-BC1D-AF49FD6430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818-0FC5-4456-B3E1-A48EDDB064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tiology, Classification and Diagnosis of Mental Disorder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aramond"/>
              </a:rPr>
              <a:t>MD, PhD, Milica M. Borovcanin, psychiatris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grated Academic Studies of Medici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sychiat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hool Year 2023/202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46" descr=""/>
          <p:cNvPicPr/>
          <p:nvPr/>
        </p:nvPicPr>
        <p:blipFill>
          <a:blip r:embed="rId1"/>
          <a:stretch/>
        </p:blipFill>
        <p:spPr>
          <a:xfrm>
            <a:off x="3784680" y="76320"/>
            <a:ext cx="153648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lliva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is "a relatively stable pattern of interpersonal situations that shape human life“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personality apart from its relationships with people – emphasizing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rpersonal relationship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ween peo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development does not end in early childhood, but i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ignificantly shaped in adolesc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estalt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"experience of the whole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es not depend only on its individual compone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quality of the whole is in fact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new synthe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ransactional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sonality is the structural and functional organization of three Ego states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parent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Nurturing or Critical Par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adult ego stat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child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Free Child or Adapted Child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exchange of these stimuli between persons constitutes a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ciety is an aggregate of personalities and it forces individuals to accept special roles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role theory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ehavioral 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based on Pavlov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nditioned reflex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basic learning theo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asic idea is that behavior is learned during life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t is condition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ve consequences of a behavior (reward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infor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behavior that caused them, and negative consequences of a behavior (punishment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at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Right Arrow 3"/>
          <p:cNvGrpSpPr/>
          <p:nvPr/>
        </p:nvGrpSpPr>
        <p:grpSpPr>
          <a:xfrm>
            <a:off x="7937640" y="5079960"/>
            <a:ext cx="1003320" cy="1117800"/>
            <a:chOff x="7937640" y="5079960"/>
            <a:chExt cx="1003320" cy="1117800"/>
          </a:xfrm>
        </p:grpSpPr>
        <p:pic>
          <p:nvPicPr>
            <p:cNvPr id="158" name="Right Arrow 3" descr=""/>
            <p:cNvPicPr/>
            <p:nvPr/>
          </p:nvPicPr>
          <p:blipFill>
            <a:blip r:embed="rId1"/>
            <a:stretch/>
          </p:blipFill>
          <p:spPr>
            <a:xfrm>
              <a:off x="7937640" y="507996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8086320" y="530856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ight Arrow 4"/>
          <p:cNvGrpSpPr/>
          <p:nvPr/>
        </p:nvGrpSpPr>
        <p:grpSpPr>
          <a:xfrm>
            <a:off x="7988400" y="3301920"/>
            <a:ext cx="1003320" cy="1117800"/>
            <a:chOff x="7988400" y="3301920"/>
            <a:chExt cx="1003320" cy="1117800"/>
          </a:xfrm>
        </p:grpSpPr>
        <p:pic>
          <p:nvPicPr>
            <p:cNvPr id="161" name="Right Arrow 4" descr=""/>
            <p:cNvPicPr/>
            <p:nvPr/>
          </p:nvPicPr>
          <p:blipFill>
            <a:blip r:embed="rId2"/>
            <a:stretch/>
          </p:blipFill>
          <p:spPr>
            <a:xfrm>
              <a:off x="7988400" y="330192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16200000">
              <a:off x="8085960" y="3753000"/>
              <a:ext cx="7585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lport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its not only show the way, relative consistency in behavior, but also encourage the personality to a certain activity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motivational character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t is possible that something that a person did out of biological necessity later becomes an independent driving for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at was previously a means to satisfy a certain biological motive has become 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autonomous, independent motiv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go Psychological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Hartmann'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psychological theory of personality considers that the Ego has other functions besides those attributed to it by Freu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goals of Ego are not always related to conscious goal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defenses are not always pathologica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pecial attention is paid to adapting the Ego to the environ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aslow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elf-actualization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 an ideal goal, striving for the fullest realization of one's own possi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erson who has reach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his/her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ull potential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 is self-actualiz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rikso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P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rsonality </a:t>
            </a: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is understood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s a continuous proces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at goes through stages, which somewhat coincide with Freud's st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es with characteristic signs (development) continu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til ol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iological Basis of Human Behavio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pleasure principle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organism tries to find the greatest possible pleasure, while at the same time avoiding discomfo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leasure principle is modified by life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modification of the pleasure principle is called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ality princi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eory of Unconscious Motiv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uman being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e not always awar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the motives and goals of their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00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on the unconscious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eaching on re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23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 on Id, Ego and Supereg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Personality traits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ay of behaving and reacting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Temperament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de of emotional respon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Character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volitional and moral characteristic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Mental Life of Human Being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wo basic parts: conscious and 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conscious par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courages a person to take action guided by the principle of satisfaction and secu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unconsciou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which desires and other contents are suppressed, is also active and stimulates a person to a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Arbitrary Division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292720" y="1989000"/>
            <a:ext cx="3600360" cy="2654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impulses and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ical</a:t>
            </a:r>
            <a:r>
              <a:rPr b="0" lang="sr-Latn-RS" sz="2400" spc="-1" strike="noStrike">
                <a:solidFill>
                  <a:srgbClr val="ffffff"/>
                </a:solidFill>
                <a:latin typeface="Garamond"/>
              </a:rPr>
              <a:t>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on the pleasur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7579440" y="5805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l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92720" y="2924280"/>
            <a:ext cx="3600360" cy="3751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ys of performing tasks from the Id, Superego and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s of personal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according to the principle of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292720" y="4365720"/>
            <a:ext cx="3600360" cy="302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valu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function of self-observer and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go ideal a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nflict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7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188" name="Left-Right Arrow 4"/>
          <p:cNvGrpSpPr/>
          <p:nvPr/>
        </p:nvGrpSpPr>
        <p:grpSpPr>
          <a:xfrm>
            <a:off x="2413080" y="4038480"/>
            <a:ext cx="863640" cy="609840"/>
            <a:chOff x="2413080" y="4038480"/>
            <a:chExt cx="863640" cy="609840"/>
          </a:xfrm>
        </p:grpSpPr>
        <p:pic>
          <p:nvPicPr>
            <p:cNvPr id="189" name="Left-Right Arrow 4" descr=""/>
            <p:cNvPicPr/>
            <p:nvPr/>
          </p:nvPicPr>
          <p:blipFill>
            <a:blip r:embed="rId2"/>
            <a:stretch/>
          </p:blipFill>
          <p:spPr>
            <a:xfrm>
              <a:off x="2413080" y="4038480"/>
              <a:ext cx="8636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04960" y="4199040"/>
              <a:ext cx="478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Left-Right Arrow 6"/>
          <p:cNvGrpSpPr/>
          <p:nvPr/>
        </p:nvGrpSpPr>
        <p:grpSpPr>
          <a:xfrm>
            <a:off x="7645320" y="1422360"/>
            <a:ext cx="609840" cy="2146320"/>
            <a:chOff x="7645320" y="1422360"/>
            <a:chExt cx="609840" cy="2146320"/>
          </a:xfrm>
        </p:grpSpPr>
        <p:pic>
          <p:nvPicPr>
            <p:cNvPr id="192" name="Left-Right Arrow 6" descr=""/>
            <p:cNvPicPr/>
            <p:nvPr/>
          </p:nvPicPr>
          <p:blipFill>
            <a:blip r:embed="rId3"/>
            <a:stretch/>
          </p:blipFill>
          <p:spPr>
            <a:xfrm>
              <a:off x="7645320" y="1422360"/>
              <a:ext cx="60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7095960" y="2371680"/>
              <a:ext cx="177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-44640" y="836640"/>
            <a:ext cx="41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Left-Right Arrow 8"/>
          <p:cNvGrpSpPr/>
          <p:nvPr/>
        </p:nvGrpSpPr>
        <p:grpSpPr>
          <a:xfrm>
            <a:off x="723960" y="1206360"/>
            <a:ext cx="952560" cy="1244880"/>
            <a:chOff x="723960" y="1206360"/>
            <a:chExt cx="952560" cy="1244880"/>
          </a:xfrm>
        </p:grpSpPr>
        <p:pic>
          <p:nvPicPr>
            <p:cNvPr id="196" name="Left-Right Arrow 8" descr=""/>
            <p:cNvPicPr/>
            <p:nvPr/>
          </p:nvPicPr>
          <p:blipFill>
            <a:blip r:embed="rId4"/>
            <a:stretch/>
          </p:blipFill>
          <p:spPr>
            <a:xfrm>
              <a:off x="723960" y="1206360"/>
              <a:ext cx="9525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882600">
              <a:off x="764640" y="1710000"/>
              <a:ext cx="868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Left-Right Arrow 9"/>
          <p:cNvGrpSpPr/>
          <p:nvPr/>
        </p:nvGrpSpPr>
        <p:grpSpPr>
          <a:xfrm>
            <a:off x="2489040" y="5842080"/>
            <a:ext cx="851040" cy="609480"/>
            <a:chOff x="2489040" y="5842080"/>
            <a:chExt cx="851040" cy="609480"/>
          </a:xfrm>
        </p:grpSpPr>
        <p:pic>
          <p:nvPicPr>
            <p:cNvPr id="199" name="Left-Right Arrow 9" descr=""/>
            <p:cNvPicPr/>
            <p:nvPr/>
          </p:nvPicPr>
          <p:blipFill>
            <a:blip r:embed="rId5"/>
            <a:stretch/>
          </p:blipFill>
          <p:spPr>
            <a:xfrm>
              <a:off x="2489040" y="5842080"/>
              <a:ext cx="851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76600" y="5999040"/>
              <a:ext cx="4777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Role of Conflic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flicts produce discomfort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nxie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poor personality functioning (dysfunctionality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solved by overlooking one of the conflicting elements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xcluding it from the conscious part of the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ion mechanism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used to exclude content or memories that cause discomfort or pain from the conscious part of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ppress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done either by the Superego, or it is done by the Ego at its behest, which in that case is submissive to 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voluntary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clusion of conflicting or unpleasant thoughts, memories or impulses from consciou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i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rimary Ego defense mechanis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other mechanisms only reinforce the sup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evels of consciousness relevant to suppression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e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b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7" name="Right Arrow 3"/>
          <p:cNvGrpSpPr/>
          <p:nvPr/>
        </p:nvGrpSpPr>
        <p:grpSpPr>
          <a:xfrm>
            <a:off x="4064040" y="2019240"/>
            <a:ext cx="1003320" cy="711360"/>
            <a:chOff x="4064040" y="2019240"/>
            <a:chExt cx="1003320" cy="711360"/>
          </a:xfrm>
        </p:grpSpPr>
        <p:pic>
          <p:nvPicPr>
            <p:cNvPr id="208" name="Right Arrow 3" descr=""/>
            <p:cNvPicPr/>
            <p:nvPr/>
          </p:nvPicPr>
          <p:blipFill>
            <a:blip r:embed="rId1"/>
            <a:stretch/>
          </p:blipFill>
          <p:spPr>
            <a:xfrm>
              <a:off x="4064040" y="20192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5400000">
              <a:off x="4371480" y="2085840"/>
              <a:ext cx="432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ight Arrow 4"/>
          <p:cNvGrpSpPr/>
          <p:nvPr/>
        </p:nvGrpSpPr>
        <p:grpSpPr>
          <a:xfrm>
            <a:off x="4064040" y="3174840"/>
            <a:ext cx="1003320" cy="711360"/>
            <a:chOff x="4064040" y="3174840"/>
            <a:chExt cx="1003320" cy="711360"/>
          </a:xfrm>
        </p:grpSpPr>
        <p:pic>
          <p:nvPicPr>
            <p:cNvPr id="211" name="Right Arrow 4" descr=""/>
            <p:cNvPicPr/>
            <p:nvPr/>
          </p:nvPicPr>
          <p:blipFill>
            <a:blip r:embed="rId2"/>
            <a:stretch/>
          </p:blipFill>
          <p:spPr>
            <a:xfrm>
              <a:off x="4064040" y="31748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371840" y="3238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ight Arrow 5"/>
          <p:cNvGrpSpPr/>
          <p:nvPr/>
        </p:nvGrpSpPr>
        <p:grpSpPr>
          <a:xfrm>
            <a:off x="4064040" y="4178160"/>
            <a:ext cx="1003320" cy="711360"/>
            <a:chOff x="4064040" y="4178160"/>
            <a:chExt cx="1003320" cy="711360"/>
          </a:xfrm>
        </p:grpSpPr>
        <p:pic>
          <p:nvPicPr>
            <p:cNvPr id="214" name="Right Arrow 5" descr=""/>
            <p:cNvPicPr/>
            <p:nvPr/>
          </p:nvPicPr>
          <p:blipFill>
            <a:blip r:embed="rId3"/>
            <a:stretch/>
          </p:blipFill>
          <p:spPr>
            <a:xfrm>
              <a:off x="4064040" y="417816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5400000">
              <a:off x="4371840" y="4246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10"/>
          <p:cNvSpPr/>
          <p:nvPr/>
        </p:nvSpPr>
        <p:spPr>
          <a:xfrm>
            <a:off x="97164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ergy consumption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(counter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Importance of Ego-Defense Mechanism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sychic phenomena used to support the suppression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ary function of Ego-defense mechanisms is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ducing anxiety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tection of the Ego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upporting suppression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 functions in his totality, trying to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grate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herited nature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dividual personality development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vents of everyday lif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formative importanc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one of the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ories of personality were created as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f psychological studies and find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15920"/>
          <a:ext cx="8640720" cy="6653160"/>
        </p:xfrm>
        <a:graphic>
          <a:graphicData uri="http://schemas.openxmlformats.org/drawingml/2006/table">
            <a:tbl>
              <a:tblPr/>
              <a:tblGrid>
                <a:gridCol w="3141720"/>
                <a:gridCol w="5499000"/>
              </a:tblGrid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o defense mechan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pla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li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weakening of one instinctive impulse by using t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nergy of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ssimilation of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o one's own Ego or Super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dentif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consciou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cceptance of another person's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replacing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ith which the instinctive impulses are satis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tion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pting or resorting to a socially acceptable, more or les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ogical explan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or actions or decisions that are actually produced by unconscious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active 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ing to the other extreme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the opposi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overcompensation for unacceptable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perso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ttributes his own thoughts, emotions or impulses to another per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localizes them in the objects of the extern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gr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tendency for the personality to return to a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arlier situ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which is more pleasant, because the current situation is painful, unbea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ges in Psychosexual and Psychosocial developmen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-12600" y="1689120"/>
            <a:ext cx="8889840" cy="167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79280" y="3429000"/>
            <a:ext cx="17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sucking, ad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biting, aggression, sa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lcoh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2600" y="3059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2nd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   3-6 years              7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90800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xpulsive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expulsiv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retention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reten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sessive-compul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ersonali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0836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oedipal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rim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castration f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rigidity, anorgasmia, impo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xie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36400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same-sex friendshi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164360" y="3500280"/>
            <a:ext cx="172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arl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midd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lat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dependence -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 Objective View in Psychiat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non-compliance of psychiatrists in the process of diagnosis showed significant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attempt to minimize the subjectivity of psychiatrist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cise diagnostic principles and minimum symptoms that should be determined for each nosological unit have been elabora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assification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thoanatomical classifica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organic and functional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ording to etiolog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endogenous and exogenous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mptomat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chogen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active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0720" y="560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assification of Mental Disord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ased on Clinical Phenomenolog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680" y="1717560"/>
            <a:ext cx="43894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national Classification of Diseases and Related Health Problems,</a:t>
            </a:r>
            <a:r>
              <a:rPr b="1" lang="sr-Latn-R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vision (ICD-10)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orld Health Organ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6280" y="3197160"/>
            <a:ext cx="4039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00-F99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6000" y="1862280"/>
            <a:ext cx="4248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iagnostic and Statistical Manual, 5th Revision – DSM-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erican Psychiatric Associ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Content Placeholder 9" descr="index.jpg"/>
          <p:cNvPicPr/>
          <p:nvPr/>
        </p:nvPicPr>
        <p:blipFill>
          <a:blip r:embed="rId1"/>
          <a:stretch/>
        </p:blipFill>
        <p:spPr>
          <a:xfrm>
            <a:off x="5219640" y="4221000"/>
            <a:ext cx="2895840" cy="158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age result for mkb 10"/>
          <p:cNvPicPr/>
          <p:nvPr/>
        </p:nvPicPr>
        <p:blipFill>
          <a:blip r:embed="rId2"/>
          <a:stretch/>
        </p:blipFill>
        <p:spPr>
          <a:xfrm>
            <a:off x="1765440" y="377352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Oval 8"/>
          <p:cNvSpPr/>
          <p:nvPr/>
        </p:nvSpPr>
        <p:spPr>
          <a:xfrm>
            <a:off x="357120" y="1197000"/>
            <a:ext cx="3422880" cy="874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 and behavioral disorders are the result of complex interactions between biological, psychological and social factor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, physical and social health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re interwined and interdependen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4572000" y="2235240"/>
            <a:ext cx="45720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5"/>
          <p:cNvCxnSpPr/>
          <p:nvPr/>
        </p:nvCxnSpPr>
        <p:spPr>
          <a:xfrm>
            <a:off x="1835280" y="2060640"/>
            <a:ext cx="5023080" cy="2448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gnosis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amnesi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ut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data is obtained from the patient himself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heter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taking data from another person, family member or frien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direct and active conducting of interview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simulation – aggravation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sychiatric interview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herapist is the main weapon of the int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the first meeting, the therapist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mpath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specially importa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rbal and non-verbal communic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"/>
          <p:cNvPicPr/>
          <p:nvPr/>
        </p:nvPicPr>
        <p:blipFill>
          <a:blip r:embed="rId1"/>
          <a:stretch/>
        </p:blipFill>
        <p:spPr>
          <a:xfrm>
            <a:off x="457200" y="24120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utline of Psychiatric Hist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dentifying dat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ief complai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story of Present Ill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mily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ental Status Examin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General Appearance and Behavior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Speech Characteristic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onsciousness and Orienta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Think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telligen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motions (Mood and Affect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g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Willpower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lang="sr-RS" sz="2600" spc="-1" strike="noStrike">
                <a:solidFill>
                  <a:srgbClr val="c00000"/>
                </a:solidFill>
                <a:latin typeface="Garamond"/>
              </a:rPr>
              <a:t>10.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al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Insight and Judge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mentary methods in the examination of mental disord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sychological tests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titud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rsonality tests (questionnaires and projectiv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ialized tests for examination of certain psychological functions and certain clinical syndrome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hysico-biological auxiliary diagnostic method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biochemical analyzes of blood or urine, brain visualization methods, neurophysiological tests, genetic markers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Neuroplastic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earlier dogma that the adult brain cannot produce new neurons through experiments has been challeng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nimals, in the regions responsible for learning and memory, new neurons can be formed in adulthoo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Brain plasticity refers to its ability to change – to respond to stimul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It is manifested b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vascul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synapt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neur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gni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Specific functions and processes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hape recogni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mation of concept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guag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Personality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s a unique organization of traits, formed by the action of the organism and the social environment, and determines a unique way of behav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integrative approach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is needed in looking at the possible etiological factors that caused the emergence of mental disorder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urrently, in our country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he application of ICD-10 for diagnosing mental disorders is legally bind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"psychiatry is best learned from intelligent patients"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eud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came the basis of an entire therapeutic system known a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pose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conscious confli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dler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's basic aspiration is striving for superiority: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”The Will to Power"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influence of Nietzsche's philosoph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 emphasized the role of the conscious part of the personality, as well as the importance of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nvironmental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t the base of the will to power is not sexuality, but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ggressiv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Jung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ddition to the Ego and the personal unconscious, there is also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llective unconsciou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in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ollective unconscious is a collection of latent memory traces inherited from the human pas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ructural components of the collective unconscious ar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chetyp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universal forms of human thoughts and ide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orney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Basic anxiety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the child's feeling of helples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hild is helpless in a collision with parental autho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Neurotic needs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formed, as an attempt to adapt and overcome basic anxie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se needs dominate the individual, then they are pathologic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omm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personality is shaped by relations with the whole societ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need for association, for status in society, for a sense of identity, for creativity etc. plays an important role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Garamond"/>
              </a:rPr>
              <a:t>"sentenced to freedom"           "the art of love”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Right Arrow 4"/>
          <p:cNvGrpSpPr/>
          <p:nvPr/>
        </p:nvGrpSpPr>
        <p:grpSpPr>
          <a:xfrm>
            <a:off x="4356000" y="5486400"/>
            <a:ext cx="1117800" cy="1003320"/>
            <a:chOff x="4356000" y="5486400"/>
            <a:chExt cx="1117800" cy="1003320"/>
          </a:xfrm>
        </p:grpSpPr>
        <p:pic>
          <p:nvPicPr>
            <p:cNvPr id="147" name="Right Arrow 4" descr=""/>
            <p:cNvPicPr/>
            <p:nvPr/>
          </p:nvPicPr>
          <p:blipFill>
            <a:blip r:embed="rId1"/>
            <a:stretch/>
          </p:blipFill>
          <p:spPr>
            <a:xfrm>
              <a:off x="4356000" y="5486400"/>
              <a:ext cx="11178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5735520"/>
              <a:ext cx="760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0:21:24Z</dcterms:created>
  <dc:creator>Milica Borovcanin</dc:creator>
  <dc:description/>
  <dc:language>en-US</dc:language>
  <cp:lastModifiedBy>Milica Borovcanin</cp:lastModifiedBy>
  <dcterms:modified xsi:type="dcterms:W3CDTF">2024-02-13T22:57:48Z</dcterms:modified>
  <cp:revision>79</cp:revision>
  <dc:subject/>
  <dc:title>Slide 1</dc:title>
</cp:coreProperties>
</file>